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0.jpeg" ContentType="image/jpeg"/>
  <Override PartName="/ppt/media/image12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28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41.jpeg" ContentType="image/jpeg"/>
  <Override PartName="/ppt/media/image33.jpeg" ContentType="image/jpeg"/>
  <Override PartName="/ppt/media/image10.png" ContentType="image/png"/>
  <Override PartName="/ppt/media/image27.jpeg" ContentType="image/jpeg"/>
  <Override PartName="/ppt/media/image44.png" ContentType="image/png"/>
  <Override PartName="/ppt/media/image40.jpeg" ContentType="image/jpeg"/>
  <Override PartName="/ppt/media/image43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1154-D768-4326-948B-E167BBD9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D4F3-B7AB-490D-A770-35926D56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6A543-02B9-4F62-8BE3-E70C79D1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ACBDB-7D36-4E18-AC78-7DB964D0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6436C-BB48-4749-B0A1-36D77353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228C4-F78C-4C07-8AF4-B4ABCB25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14FF4-9E71-482F-BD20-51E123E8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A52F6-9E33-4C93-9073-79189E96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06318-A702-4FF1-9302-D7C09F8C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6C5E1-2AC7-49AF-A9B8-4BAA40FE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DCEDF-B941-4E67-A40F-F3AC82DF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49C39-F1A7-4A3F-97D0-DE365E0C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FE62-EB4C-46C7-962B-9F6A6612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FE74F-DB39-4EFC-B69E-D39DA04C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219EC-276D-4DEC-B8F3-640743D9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B52C2-F67B-4B99-B082-586BBAAA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69381-651A-4CF7-AF6A-90E1EE0E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E5DA0-F6B1-483D-B432-F9FCFB66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AA1AE-8AE8-4AD2-88B0-D42760DE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5D759-0B21-4BBC-9771-7D4CE9A2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7D20E-9B3D-438F-8F01-9BE6F9FD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33D25-AE20-4E32-92E7-98FB17A8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5F0B7-7EE0-4BBB-BDEA-319485C5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F2C-7387-4741-940E-43FFB44E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7017E-5635-48C1-AB82-82108260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86BE9-8B31-44C6-82A7-C6BC535D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AC5BB-2C9F-4C06-B49A-C910871F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349DB-B192-4610-AA8C-2CC0F36F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0DE0F-1CDF-46B4-99BA-EF5D0E0F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9C6EC-40E6-4FB8-976E-7F2F6573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62890-EC92-43C6-AA5C-867D89EB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1B497-BA1F-458B-9604-652FE77C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DCA21-4722-4960-A59D-6FEEB934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4CA3B-A642-4F12-9DC7-961CC702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982C-863C-4F1D-8D0A-BF13D4EF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6F30E-265A-4DC3-B7C6-1C95E18E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9328C-3F17-4A69-839F-DD6E0158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7D1B7-16C1-47D4-A141-DE7F2B9B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AA5DD-B498-4F43-A1CD-E208CDF5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6FEA3-B4E1-40E1-A80A-2AEF62FB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20193-DA0F-477B-83C3-3E50FDE2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EA226-88E8-4005-AF08-8BA61258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A5A4D-8F2D-4389-9CD6-D2EC69F7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9F8B9-8126-4804-8CBF-CA6FCBEA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679FE-0930-492F-8AE5-EB2BCF1C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FDC0-CF0D-4152-AE11-77EBDA01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0FC29-0056-43FC-BE87-43F803F1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90C19-D8A5-4666-A019-CE662267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17E72-21BC-433F-BE95-69078653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74EE9-B408-4153-AA64-76D631E7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6DBA2-3705-4292-AB38-704473FC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4468-2E7F-4DC9-A014-515536A7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DDF1-AF82-4EC6-B656-DD1ED30B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EDD1-A862-493B-B038-D664D620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4EE8-A344-42C5-A3F8-03032112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5603-5164-4F76-BD89-13BD7904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4BC4-7E75-4F57-A6EF-212F8C70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F2B0-831C-4632-8E93-A81D6F83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BFF8-5D0E-4FC8-A880-4728A624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1F3C-BBDE-42CD-97DC-5496D99D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E12E-DA8C-4332-B36B-7F6403E2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00B5-8856-4E80-B7FE-786CDB04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D5FAC-9C0C-4F3C-9997-095C4E7D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ADADC-A6E4-4E04-AEF5-BCF43E0B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DFC9A-2689-49CD-929D-4C2C9164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FA281-1729-4699-9B88-712E2D87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875C8-D57F-4F94-BC4E-5D92AA7E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B9B-A645-4488-B4EF-F43C4EAC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6054B-E0D7-49BB-8FC2-4711C96B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04A55-F79A-4206-B870-6A8B6FFB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BAB9A-C4B1-4724-ABEC-8F597A20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74AC2-6DF9-453A-ABCF-894BDF04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7A653-A1A0-4640-BD68-F91FC86C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743B4-A29B-4474-9807-21011A28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45E7B-B37D-427C-BC12-D45A68DE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C9C73-5718-4E46-88AA-B560EF7F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0C0FB-82A1-48DC-B4BC-B2D47073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44287-0405-4A11-862C-AA4DF07A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B3D1-489D-4302-ACA6-15450111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828D6-0E5C-41CA-95D7-DADB066C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F93D3-AA3B-49E3-A398-7CC1758E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098A4-6DB6-4144-93F8-953F0B48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91F36-24DC-4C4A-BFF7-7CD80217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60293-85D9-4367-93EE-E5348174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741B8-6437-4956-AD9D-0BEC2AEA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7EAA4-82A2-4395-994B-EBF9F7E0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5AAB9-F76A-4113-86C4-E95E6554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994E1-ADB4-40BD-9108-BC153143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885DE-2E6C-46A3-BB80-3CE4A46D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52BE-FD43-47F7-86B6-D641DB35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FDCD1-B8E3-486D-8239-35EF9DC1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8DA96-FF27-4CCA-A1FB-7DFE40D9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6454F-F2E1-487E-A9B8-7B2F348E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24A55-B737-4172-87D9-1F44099E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82888-FF42-43CC-AE0B-AC0E75F3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CCA40-2840-4A84-9397-3B5D71F5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FBF13-D0C7-439A-8E89-E4A79C53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43041-C20F-4C31-A8A6-EB707D1A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FFBAC-F11F-472B-8C19-C0BF3B43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2CB36-FFE2-4323-B071-9F96D5B2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0BA-95B5-44F7-B19F-62C1E97C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A4401-C268-41D5-A394-124D9B63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BA038-1225-43ED-9F37-6004EB26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5F973-41A7-4367-9B1D-85156938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D7E6A-6906-4C4A-8CC5-637A709E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6A408-B378-4A3A-889D-136715E9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6A5C1-158F-4E6B-87C8-9D3444D0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90A04-3F27-41BE-A5A7-2BA5666E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EA10C-88C0-4F2C-A0CE-B6F93810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B8760-D843-495F-BAE6-869F021E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E9489-B7F6-496F-9FD7-BC1B524D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CDF-B167-4BF7-B0CF-CFECDBBF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5D2C2-4D97-45B8-A95C-B96D6E8A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EA84C-81EB-45FA-88AD-E01F73C5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7485F-79A2-4B18-998B-F0D21D6C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BDB7D-96AD-445F-BB3F-9726247D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57E60-7476-450C-8478-7B6D3FED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2DED0-053F-47C4-9AAA-2CE5E2F6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C094E-DFF2-4A74-A36C-5D25A381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6DFCE-6404-4625-8D4D-685B9EF2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473CF-3EFF-4923-BD54-5E3D729C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46B94-1ECA-4258-91DC-E6C242B2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ADB9-E450-4CD0-85BD-4D39724F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9082A-419B-4460-8F2B-1A715274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40655-110A-4CE1-B589-ED961E20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8C4CD-8560-46C7-A38A-890864A4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C3083-C8DC-4E64-ACCD-123EA1C0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53D36-2680-46AC-B77E-62CFAA3B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3471C-53E7-47CF-B385-D29E3316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B7727-5BD8-48BA-A476-9DF8E18B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171AE-82D9-4A3F-B6E3-757C5491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E13BD-F663-4D4D-9E19-9D8D9CB3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B5171-1B0A-48AF-8411-20D181B8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5DA-F57D-43D9-B9BD-58A6A240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AF2C7-1531-4753-BF21-41C6EFE5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BEB2E-55AD-44C2-88A2-E90696EB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5A551-AA34-4C94-B2D8-F47F6EA6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F7850-EF94-41BD-B222-9F395FE1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B0546-EA29-4E2C-AD7A-39C75AEF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FE41F-6439-41E2-A4DB-8CF4C833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BC5CF-8FD5-4EE2-9138-3C96D57B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47D81-C738-4D49-BB29-8E32BFB7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367F8-194F-47D0-91A5-4C45DF28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7E2F5-A9D1-44CB-9AFB-03FC968D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0" y="0"/>
            <a:ext cx="9153360" cy="1862280"/>
          </a:xfrm>
          <a:prstGeom prst="pie">
            <a:avLst/>
          </a:prstGeom>
          <a:solidFill>
            <a:srgbClr val="d1634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0" y="0"/>
            <a:ext cx="9153360" cy="1481040"/>
          </a:xfrm>
          <a:prstGeom prst="pie">
            <a:avLst/>
          </a:prstGeom>
          <a:gradFill rotWithShape="0">
            <a:gsLst>
              <a:gs pos="0">
                <a:srgbClr val="a9432b">
                  <a:alpha val="69019"/>
                </a:srgbClr>
              </a:gs>
              <a:gs pos="100000">
                <a:srgbClr val="d1634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6C4C-974C-4664-8305-4761BBA3794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b08c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c7b7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cadae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b4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904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7"/>
          <p:cNvGrpSpPr/>
          <p:nvPr/>
        </p:nvGrpSpPr>
        <p:grpSpPr>
          <a:xfrm>
            <a:off x="0" y="-6840"/>
            <a:ext cx="1104840" cy="6891480"/>
            <a:chOff x="0" y="-6840"/>
            <a:chExt cx="1104840" cy="6891480"/>
          </a:xfrm>
        </p:grpSpPr>
        <p:sp>
          <p:nvSpPr>
            <p:cNvPr id="453" name="Freeform 8"/>
            <p:cNvSpPr/>
            <p:nvPr/>
          </p:nvSpPr>
          <p:spPr>
            <a:xfrm rot="16200000">
              <a:off x="-2892240" y="2887200"/>
              <a:ext cx="6891480" cy="1103400"/>
            </a:xfrm>
            <a:prstGeom prst="pie">
              <a:avLst/>
            </a:prstGeom>
            <a:solidFill>
              <a:srgbClr val="d1634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9"/>
            <p:cNvSpPr/>
            <p:nvPr/>
          </p:nvSpPr>
          <p:spPr>
            <a:xfrm rot="16200000">
              <a:off x="-2893680" y="2899440"/>
              <a:ext cx="6870960" cy="1082880"/>
            </a:xfrm>
            <a:prstGeom prst="pi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Oval 10"/>
          <p:cNvGrpSpPr/>
          <p:nvPr/>
        </p:nvGrpSpPr>
        <p:grpSpPr>
          <a:xfrm>
            <a:off x="6851520" y="3882960"/>
            <a:ext cx="774720" cy="768240"/>
            <a:chOff x="6851520" y="3882960"/>
            <a:chExt cx="774720" cy="768240"/>
          </a:xfrm>
        </p:grpSpPr>
        <p:pic>
          <p:nvPicPr>
            <p:cNvPr id="456" name="Oval 10" descr=""/>
            <p:cNvPicPr/>
            <p:nvPr/>
          </p:nvPicPr>
          <p:blipFill>
            <a:blip r:embed="rId2"/>
            <a:stretch/>
          </p:blipFill>
          <p:spPr>
            <a:xfrm>
              <a:off x="6851520" y="3882960"/>
              <a:ext cx="774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6969240" y="399744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Oval 11"/>
          <p:cNvGrpSpPr/>
          <p:nvPr/>
        </p:nvGrpSpPr>
        <p:grpSpPr>
          <a:xfrm>
            <a:off x="5784840" y="4565520"/>
            <a:ext cx="396720" cy="397080"/>
            <a:chOff x="5784840" y="4565520"/>
            <a:chExt cx="396720" cy="397080"/>
          </a:xfrm>
        </p:grpSpPr>
        <p:pic>
          <p:nvPicPr>
            <p:cNvPr id="459" name="Oval 11" descr=""/>
            <p:cNvPicPr/>
            <p:nvPr/>
          </p:nvPicPr>
          <p:blipFill>
            <a:blip r:embed="rId3"/>
            <a:stretch/>
          </p:blipFill>
          <p:spPr>
            <a:xfrm>
              <a:off x="5784840" y="4565520"/>
              <a:ext cx="39672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845320" y="46274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Oval 12"/>
          <p:cNvGrpSpPr/>
          <p:nvPr/>
        </p:nvGrpSpPr>
        <p:grpSpPr>
          <a:xfrm>
            <a:off x="1212840" y="378000"/>
            <a:ext cx="744480" cy="744480"/>
            <a:chOff x="1212840" y="378000"/>
            <a:chExt cx="744480" cy="744480"/>
          </a:xfrm>
        </p:grpSpPr>
        <p:pic>
          <p:nvPicPr>
            <p:cNvPr id="462" name="Oval 12" descr=""/>
            <p:cNvPicPr/>
            <p:nvPr/>
          </p:nvPicPr>
          <p:blipFill>
            <a:blip r:embed="rId4"/>
            <a:stretch/>
          </p:blipFill>
          <p:spPr>
            <a:xfrm>
              <a:off x="1212840" y="378000"/>
              <a:ext cx="744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324080" y="490680"/>
              <a:ext cx="515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b08c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c7b7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cadae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b4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904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91C5-BD25-4F04-933A-0A238D4C199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reeform 7"/>
          <p:cNvSpPr/>
          <p:nvPr/>
        </p:nvSpPr>
        <p:spPr>
          <a:xfrm>
            <a:off x="0" y="0"/>
            <a:ext cx="9150480" cy="1281240"/>
          </a:xfrm>
          <a:prstGeom prst="pie">
            <a:avLst/>
          </a:prstGeom>
          <a:solidFill>
            <a:srgbClr val="d1634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8"/>
          <p:cNvSpPr/>
          <p:nvPr/>
        </p:nvSpPr>
        <p:spPr>
          <a:xfrm>
            <a:off x="0" y="-1440"/>
            <a:ext cx="9144000" cy="1093680"/>
          </a:xfrm>
          <a:prstGeom prst="pi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Oval 9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508" name="Oval 9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Oval 10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511" name="Oval 10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Oval 11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514" name="Oval 11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b08c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c7b7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cadae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b4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904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4339-7D84-4C33-8840-AAF1024C585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reeform 7"/>
          <p:cNvSpPr/>
          <p:nvPr/>
        </p:nvSpPr>
        <p:spPr>
          <a:xfrm flipV="1">
            <a:off x="0" y="5590080"/>
            <a:ext cx="9150480" cy="1281240"/>
          </a:xfrm>
          <a:prstGeom prst="pie">
            <a:avLst/>
          </a:prstGeom>
          <a:solidFill>
            <a:srgbClr val="d1634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8"/>
          <p:cNvSpPr/>
          <p:nvPr/>
        </p:nvSpPr>
        <p:spPr>
          <a:xfrm flipV="1">
            <a:off x="0" y="5779800"/>
            <a:ext cx="9144000" cy="1093680"/>
          </a:xfrm>
          <a:prstGeom prst="pi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Oval 9"/>
          <p:cNvGrpSpPr/>
          <p:nvPr/>
        </p:nvGrpSpPr>
        <p:grpSpPr>
          <a:xfrm>
            <a:off x="8143920" y="5638680"/>
            <a:ext cx="768240" cy="768600"/>
            <a:chOff x="8143920" y="5638680"/>
            <a:chExt cx="768240" cy="768600"/>
          </a:xfrm>
        </p:grpSpPr>
        <p:pic>
          <p:nvPicPr>
            <p:cNvPr id="560" name="Oval 9" descr=""/>
            <p:cNvPicPr/>
            <p:nvPr/>
          </p:nvPicPr>
          <p:blipFill>
            <a:blip r:embed="rId2"/>
            <a:stretch/>
          </p:blipFill>
          <p:spPr>
            <a:xfrm>
              <a:off x="8143920" y="5638680"/>
              <a:ext cx="7682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8258040" y="5753160"/>
              <a:ext cx="53676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Oval 10"/>
          <p:cNvGrpSpPr/>
          <p:nvPr/>
        </p:nvGrpSpPr>
        <p:grpSpPr>
          <a:xfrm>
            <a:off x="8637480" y="5205240"/>
            <a:ext cx="397080" cy="397080"/>
            <a:chOff x="8637480" y="5205240"/>
            <a:chExt cx="397080" cy="397080"/>
          </a:xfrm>
        </p:grpSpPr>
        <p:pic>
          <p:nvPicPr>
            <p:cNvPr id="563" name="Oval 10" descr=""/>
            <p:cNvPicPr/>
            <p:nvPr/>
          </p:nvPicPr>
          <p:blipFill>
            <a:blip r:embed="rId3"/>
            <a:stretch/>
          </p:blipFill>
          <p:spPr>
            <a:xfrm>
              <a:off x="8637480" y="5205240"/>
              <a:ext cx="397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8697960" y="52689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Oval 11"/>
          <p:cNvGrpSpPr/>
          <p:nvPr/>
        </p:nvGrpSpPr>
        <p:grpSpPr>
          <a:xfrm>
            <a:off x="281160" y="5638680"/>
            <a:ext cx="841320" cy="841320"/>
            <a:chOff x="281160" y="5638680"/>
            <a:chExt cx="841320" cy="841320"/>
          </a:xfrm>
        </p:grpSpPr>
        <p:pic>
          <p:nvPicPr>
            <p:cNvPr id="566" name="Oval 11" descr=""/>
            <p:cNvPicPr/>
            <p:nvPr/>
          </p:nvPicPr>
          <p:blipFill>
            <a:blip r:embed="rId4"/>
            <a:stretch/>
          </p:blipFill>
          <p:spPr>
            <a:xfrm>
              <a:off x="281160" y="563868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404640" y="5764320"/>
              <a:ext cx="5889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b08c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c7b7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cadae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b4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904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465F-CEEE-4C8B-A352-18C6F13D47E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1335240"/>
            <a:ext cx="9147240" cy="408456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0" y="1728720"/>
            <a:ext cx="9144000" cy="3308400"/>
          </a:xfrm>
          <a:prstGeom prst="pi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Oval 8"/>
          <p:cNvGrpSpPr/>
          <p:nvPr/>
        </p:nvGrpSpPr>
        <p:grpSpPr>
          <a:xfrm>
            <a:off x="7693200" y="1292400"/>
            <a:ext cx="1000080" cy="1000080"/>
            <a:chOff x="7693200" y="1292400"/>
            <a:chExt cx="1000080" cy="1000080"/>
          </a:xfrm>
        </p:grpSpPr>
        <p:pic>
          <p:nvPicPr>
            <p:cNvPr id="46" name="Oval 8" descr=""/>
            <p:cNvPicPr/>
            <p:nvPr/>
          </p:nvPicPr>
          <p:blipFill>
            <a:blip r:embed="rId2"/>
            <a:stretch/>
          </p:blipFill>
          <p:spPr>
            <a:xfrm>
              <a:off x="7693200" y="129240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843680" y="1442880"/>
              <a:ext cx="698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Oval 9"/>
          <p:cNvGrpSpPr/>
          <p:nvPr/>
        </p:nvGrpSpPr>
        <p:grpSpPr>
          <a:xfrm>
            <a:off x="7010280" y="1925640"/>
            <a:ext cx="524160" cy="525600"/>
            <a:chOff x="7010280" y="1925640"/>
            <a:chExt cx="524160" cy="525600"/>
          </a:xfrm>
        </p:grpSpPr>
        <p:pic>
          <p:nvPicPr>
            <p:cNvPr id="49" name="Oval 9" descr=""/>
            <p:cNvPicPr/>
            <p:nvPr/>
          </p:nvPicPr>
          <p:blipFill>
            <a:blip r:embed="rId3"/>
            <a:stretch/>
          </p:blipFill>
          <p:spPr>
            <a:xfrm>
              <a:off x="7010280" y="1925640"/>
              <a:ext cx="5241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088040" y="2004840"/>
              <a:ext cx="3621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Oval 10"/>
          <p:cNvGrpSpPr/>
          <p:nvPr/>
        </p:nvGrpSpPr>
        <p:grpSpPr>
          <a:xfrm>
            <a:off x="682560" y="4108320"/>
            <a:ext cx="1225440" cy="1231920"/>
            <a:chOff x="682560" y="4108320"/>
            <a:chExt cx="1225440" cy="1231920"/>
          </a:xfrm>
        </p:grpSpPr>
        <p:pic>
          <p:nvPicPr>
            <p:cNvPr id="52" name="Oval 10" descr=""/>
            <p:cNvPicPr/>
            <p:nvPr/>
          </p:nvPicPr>
          <p:blipFill>
            <a:blip r:embed="rId4"/>
            <a:stretch/>
          </p:blipFill>
          <p:spPr>
            <a:xfrm>
              <a:off x="682560" y="410832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63640" y="4292640"/>
              <a:ext cx="86040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b08c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c7b7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cadae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b4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904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A0E7-FBA5-462B-8DA7-2C764135D86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0" y="0"/>
            <a:ext cx="9153360" cy="1862280"/>
          </a:xfrm>
          <a:prstGeom prst="pie">
            <a:avLst/>
          </a:prstGeom>
          <a:solidFill>
            <a:srgbClr val="d1634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0" y="0"/>
            <a:ext cx="9153360" cy="1481040"/>
          </a:xfrm>
          <a:prstGeom prst="pie">
            <a:avLst/>
          </a:prstGeom>
          <a:gradFill rotWithShape="0">
            <a:gsLst>
              <a:gs pos="0">
                <a:srgbClr val="a9432b">
                  <a:alpha val="69019"/>
                </a:srgbClr>
              </a:gs>
              <a:gs pos="100000">
                <a:srgbClr val="d1634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val 6"/>
          <p:cNvGrpSpPr/>
          <p:nvPr/>
        </p:nvGrpSpPr>
        <p:grpSpPr>
          <a:xfrm>
            <a:off x="8163000" y="665280"/>
            <a:ext cx="768240" cy="766800"/>
            <a:chOff x="8163000" y="665280"/>
            <a:chExt cx="768240" cy="766800"/>
          </a:xfrm>
        </p:grpSpPr>
        <p:pic>
          <p:nvPicPr>
            <p:cNvPr id="98" name="Oval 6" descr=""/>
            <p:cNvPicPr/>
            <p:nvPr/>
          </p:nvPicPr>
          <p:blipFill>
            <a:blip r:embed="rId2"/>
            <a:stretch/>
          </p:blipFill>
          <p:spPr>
            <a:xfrm>
              <a:off x="8163000" y="665280"/>
              <a:ext cx="7682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277120" y="777960"/>
              <a:ext cx="536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Oval 7"/>
          <p:cNvGrpSpPr/>
          <p:nvPr/>
        </p:nvGrpSpPr>
        <p:grpSpPr>
          <a:xfrm>
            <a:off x="7875720" y="1347840"/>
            <a:ext cx="396720" cy="395280"/>
            <a:chOff x="7875720" y="1347840"/>
            <a:chExt cx="396720" cy="395280"/>
          </a:xfrm>
        </p:grpSpPr>
        <p:pic>
          <p:nvPicPr>
            <p:cNvPr id="101" name="Oval 7" descr=""/>
            <p:cNvPicPr/>
            <p:nvPr/>
          </p:nvPicPr>
          <p:blipFill>
            <a:blip r:embed="rId3"/>
            <a:stretch/>
          </p:blipFill>
          <p:spPr>
            <a:xfrm>
              <a:off x="7875720" y="1347840"/>
              <a:ext cx="3967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939080" y="14097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Oval 8"/>
          <p:cNvGrpSpPr/>
          <p:nvPr/>
        </p:nvGrpSpPr>
        <p:grpSpPr>
          <a:xfrm>
            <a:off x="281160" y="781200"/>
            <a:ext cx="1004760" cy="1011240"/>
            <a:chOff x="281160" y="781200"/>
            <a:chExt cx="1004760" cy="1011240"/>
          </a:xfrm>
        </p:grpSpPr>
        <p:pic>
          <p:nvPicPr>
            <p:cNvPr id="104" name="Oval 8" descr=""/>
            <p:cNvPicPr/>
            <p:nvPr/>
          </p:nvPicPr>
          <p:blipFill>
            <a:blip r:embed="rId4"/>
            <a:stretch/>
          </p:blipFill>
          <p:spPr>
            <a:xfrm>
              <a:off x="281160" y="7812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b08c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c7b7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cadae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b4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904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F721-4A53-4ED1-80CE-DF23B385052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10"/>
          <p:cNvSpPr/>
          <p:nvPr/>
        </p:nvSpPr>
        <p:spPr>
          <a:xfrm>
            <a:off x="0" y="426960"/>
            <a:ext cx="9144000" cy="4525920"/>
          </a:xfrm>
          <a:prstGeom prst="pie">
            <a:avLst/>
          </a:prstGeom>
          <a:solidFill>
            <a:srgbClr val="d1634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6"/>
          <p:cNvSpPr/>
          <p:nvPr/>
        </p:nvSpPr>
        <p:spPr>
          <a:xfrm>
            <a:off x="0" y="0"/>
            <a:ext cx="9144000" cy="4525920"/>
          </a:xfrm>
          <a:prstGeom prst="pie">
            <a:avLst/>
          </a:prstGeom>
          <a:gradFill rotWithShape="0">
            <a:gsLst>
              <a:gs pos="0">
                <a:srgbClr val="a9432b">
                  <a:alpha val="69019"/>
                </a:srgbClr>
              </a:gs>
              <a:gs pos="100000">
                <a:srgbClr val="d1634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Oval 7"/>
          <p:cNvGrpSpPr/>
          <p:nvPr/>
        </p:nvGrpSpPr>
        <p:grpSpPr>
          <a:xfrm>
            <a:off x="8058240" y="3846600"/>
            <a:ext cx="774720" cy="768240"/>
            <a:chOff x="8058240" y="3846600"/>
            <a:chExt cx="774720" cy="768240"/>
          </a:xfrm>
        </p:grpSpPr>
        <p:pic>
          <p:nvPicPr>
            <p:cNvPr id="150" name="Oval 7" descr=""/>
            <p:cNvPicPr/>
            <p:nvPr/>
          </p:nvPicPr>
          <p:blipFill>
            <a:blip r:embed="rId2"/>
            <a:stretch/>
          </p:blipFill>
          <p:spPr>
            <a:xfrm>
              <a:off x="8058240" y="3846600"/>
              <a:ext cx="774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8175600" y="3960720"/>
              <a:ext cx="53676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Oval 8"/>
          <p:cNvGrpSpPr/>
          <p:nvPr/>
        </p:nvGrpSpPr>
        <p:grpSpPr>
          <a:xfrm>
            <a:off x="7785000" y="4529160"/>
            <a:ext cx="395280" cy="396720"/>
            <a:chOff x="7785000" y="4529160"/>
            <a:chExt cx="395280" cy="396720"/>
          </a:xfrm>
        </p:grpSpPr>
        <p:pic>
          <p:nvPicPr>
            <p:cNvPr id="153" name="Oval 8" descr=""/>
            <p:cNvPicPr/>
            <p:nvPr/>
          </p:nvPicPr>
          <p:blipFill>
            <a:blip r:embed="rId3"/>
            <a:stretch/>
          </p:blipFill>
          <p:spPr>
            <a:xfrm>
              <a:off x="7785000" y="4529160"/>
              <a:ext cx="3952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846920" y="459108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Oval 9"/>
          <p:cNvGrpSpPr/>
          <p:nvPr/>
        </p:nvGrpSpPr>
        <p:grpSpPr>
          <a:xfrm>
            <a:off x="298440" y="3833640"/>
            <a:ext cx="1006560" cy="1013040"/>
            <a:chOff x="298440" y="3833640"/>
            <a:chExt cx="1006560" cy="1013040"/>
          </a:xfrm>
        </p:grpSpPr>
        <p:pic>
          <p:nvPicPr>
            <p:cNvPr id="156" name="Oval 9" descr=""/>
            <p:cNvPicPr/>
            <p:nvPr/>
          </p:nvPicPr>
          <p:blipFill>
            <a:blip r:embed="rId4"/>
            <a:stretch/>
          </p:blipFill>
          <p:spPr>
            <a:xfrm>
              <a:off x="298440" y="3833640"/>
              <a:ext cx="10065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47840" y="3986280"/>
              <a:ext cx="7045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b08c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c7b7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cadae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b4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904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88BD-77C4-4BF1-9F97-FDE12B9CD22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7"/>
          <p:cNvSpPr/>
          <p:nvPr/>
        </p:nvSpPr>
        <p:spPr>
          <a:xfrm>
            <a:off x="0" y="0"/>
            <a:ext cx="9144000" cy="192888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"/>
          <p:cNvSpPr/>
          <p:nvPr/>
        </p:nvSpPr>
        <p:spPr>
          <a:xfrm>
            <a:off x="0" y="228600"/>
            <a:ext cx="9144000" cy="1409760"/>
          </a:xfrm>
          <a:prstGeom prst="pi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Oval 9"/>
          <p:cNvGrpSpPr/>
          <p:nvPr/>
        </p:nvGrpSpPr>
        <p:grpSpPr>
          <a:xfrm>
            <a:off x="8308800" y="96840"/>
            <a:ext cx="622440" cy="622440"/>
            <a:chOff x="8308800" y="96840"/>
            <a:chExt cx="622440" cy="622440"/>
          </a:xfrm>
        </p:grpSpPr>
        <p:pic>
          <p:nvPicPr>
            <p:cNvPr id="202" name="Oval 9" descr=""/>
            <p:cNvPicPr/>
            <p:nvPr/>
          </p:nvPicPr>
          <p:blipFill>
            <a:blip r:embed="rId2"/>
            <a:stretch/>
          </p:blipFill>
          <p:spPr>
            <a:xfrm>
              <a:off x="8308800" y="96840"/>
              <a:ext cx="622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400960" y="190440"/>
              <a:ext cx="4334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Oval 10"/>
          <p:cNvGrpSpPr/>
          <p:nvPr/>
        </p:nvGrpSpPr>
        <p:grpSpPr>
          <a:xfrm>
            <a:off x="7559640" y="171360"/>
            <a:ext cx="378000" cy="378000"/>
            <a:chOff x="7559640" y="171360"/>
            <a:chExt cx="378000" cy="378000"/>
          </a:xfrm>
        </p:grpSpPr>
        <p:pic>
          <p:nvPicPr>
            <p:cNvPr id="205" name="Oval 10" descr=""/>
            <p:cNvPicPr/>
            <p:nvPr/>
          </p:nvPicPr>
          <p:blipFill>
            <a:blip r:embed="rId3"/>
            <a:stretch/>
          </p:blipFill>
          <p:spPr>
            <a:xfrm>
              <a:off x="7559640" y="171360"/>
              <a:ext cx="3780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615080" y="227160"/>
              <a:ext cx="25884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Oval 11"/>
          <p:cNvGrpSpPr/>
          <p:nvPr/>
        </p:nvGrpSpPr>
        <p:grpSpPr>
          <a:xfrm>
            <a:off x="208080" y="927000"/>
            <a:ext cx="1004760" cy="1011240"/>
            <a:chOff x="208080" y="927000"/>
            <a:chExt cx="1004760" cy="1011240"/>
          </a:xfrm>
        </p:grpSpPr>
        <p:pic>
          <p:nvPicPr>
            <p:cNvPr id="208" name="Oval 11" descr=""/>
            <p:cNvPicPr/>
            <p:nvPr/>
          </p:nvPicPr>
          <p:blipFill>
            <a:blip r:embed="rId4"/>
            <a:stretch/>
          </p:blipFill>
          <p:spPr>
            <a:xfrm>
              <a:off x="208080" y="9270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55680" y="1077840"/>
              <a:ext cx="7048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b08c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c7b7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cadae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b4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904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BDE1-934D-4A2A-96E4-DAFCCF4BFE9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6"/>
          <p:cNvSpPr/>
          <p:nvPr/>
        </p:nvSpPr>
        <p:spPr>
          <a:xfrm>
            <a:off x="0" y="0"/>
            <a:ext cx="9153360" cy="1862280"/>
          </a:xfrm>
          <a:prstGeom prst="pie">
            <a:avLst/>
          </a:prstGeom>
          <a:solidFill>
            <a:srgbClr val="d1634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0" y="0"/>
            <a:ext cx="9153360" cy="1481040"/>
          </a:xfrm>
          <a:prstGeom prst="pie">
            <a:avLst/>
          </a:prstGeom>
          <a:gradFill rotWithShape="0">
            <a:gsLst>
              <a:gs pos="0">
                <a:srgbClr val="a9432b">
                  <a:alpha val="69019"/>
                </a:srgbClr>
              </a:gs>
              <a:gs pos="100000">
                <a:srgbClr val="d1634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Oval 9"/>
          <p:cNvGrpSpPr/>
          <p:nvPr/>
        </p:nvGrpSpPr>
        <p:grpSpPr>
          <a:xfrm>
            <a:off x="8223120" y="1000080"/>
            <a:ext cx="628920" cy="627120"/>
            <a:chOff x="8223120" y="1000080"/>
            <a:chExt cx="628920" cy="627120"/>
          </a:xfrm>
        </p:grpSpPr>
        <p:pic>
          <p:nvPicPr>
            <p:cNvPr id="254" name="Oval 9" descr=""/>
            <p:cNvPicPr/>
            <p:nvPr/>
          </p:nvPicPr>
          <p:blipFill>
            <a:blip r:embed="rId2"/>
            <a:stretch/>
          </p:blipFill>
          <p:spPr>
            <a:xfrm>
              <a:off x="8223120" y="1000080"/>
              <a:ext cx="6289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8319960" y="1095480"/>
              <a:ext cx="4320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Oval 10"/>
          <p:cNvGrpSpPr/>
          <p:nvPr/>
        </p:nvGrpSpPr>
        <p:grpSpPr>
          <a:xfrm>
            <a:off x="7693200" y="963720"/>
            <a:ext cx="396720" cy="395280"/>
            <a:chOff x="7693200" y="963720"/>
            <a:chExt cx="396720" cy="395280"/>
          </a:xfrm>
        </p:grpSpPr>
        <p:pic>
          <p:nvPicPr>
            <p:cNvPr id="257" name="Oval 10" descr=""/>
            <p:cNvPicPr/>
            <p:nvPr/>
          </p:nvPicPr>
          <p:blipFill>
            <a:blip r:embed="rId3"/>
            <a:stretch/>
          </p:blipFill>
          <p:spPr>
            <a:xfrm>
              <a:off x="7693200" y="963720"/>
              <a:ext cx="3967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7754760" y="1025640"/>
              <a:ext cx="271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Oval 11"/>
          <p:cNvGrpSpPr/>
          <p:nvPr/>
        </p:nvGrpSpPr>
        <p:grpSpPr>
          <a:xfrm>
            <a:off x="281160" y="781200"/>
            <a:ext cx="1004760" cy="1011240"/>
            <a:chOff x="281160" y="781200"/>
            <a:chExt cx="1004760" cy="1011240"/>
          </a:xfrm>
        </p:grpSpPr>
        <p:pic>
          <p:nvPicPr>
            <p:cNvPr id="260" name="Oval 11" descr=""/>
            <p:cNvPicPr/>
            <p:nvPr/>
          </p:nvPicPr>
          <p:blipFill>
            <a:blip r:embed="rId4"/>
            <a:stretch/>
          </p:blipFill>
          <p:spPr>
            <a:xfrm>
              <a:off x="281160" y="7812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b08c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c7b7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cadae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b4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904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C243-C8BA-475C-9670-47069A7A4EA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reeform 9"/>
          <p:cNvSpPr/>
          <p:nvPr/>
        </p:nvSpPr>
        <p:spPr>
          <a:xfrm>
            <a:off x="0" y="0"/>
            <a:ext cx="9150480" cy="1281240"/>
          </a:xfrm>
          <a:prstGeom prst="pie">
            <a:avLst/>
          </a:prstGeom>
          <a:solidFill>
            <a:srgbClr val="d1634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0" y="-1440"/>
            <a:ext cx="9144000" cy="1093680"/>
          </a:xfrm>
          <a:prstGeom prst="pi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Oval 6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306" name="Oval 6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Oval 7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309" name="Oval 7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Oval 8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312" name="Oval 8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b08c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c7b7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cadae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b4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904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87DB-42C0-477E-B30E-9A7AD90821C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"/>
          <p:cNvGrpSpPr/>
          <p:nvPr/>
        </p:nvGrpSpPr>
        <p:grpSpPr>
          <a:xfrm>
            <a:off x="0" y="-1440"/>
            <a:ext cx="9150480" cy="1282680"/>
            <a:chOff x="0" y="-1440"/>
            <a:chExt cx="9150480" cy="1282680"/>
          </a:xfrm>
        </p:grpSpPr>
        <p:sp>
          <p:nvSpPr>
            <p:cNvPr id="356" name="Freeform 5"/>
            <p:cNvSpPr/>
            <p:nvPr/>
          </p:nvSpPr>
          <p:spPr>
            <a:xfrm>
              <a:off x="0" y="0"/>
              <a:ext cx="9150480" cy="1281240"/>
            </a:xfrm>
            <a:prstGeom prst="pie">
              <a:avLst/>
            </a:prstGeom>
            <a:solidFill>
              <a:srgbClr val="d1634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0" y="-1440"/>
              <a:ext cx="9144360" cy="1094040"/>
            </a:xfrm>
            <a:prstGeom prst="pi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Oval 7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359" name="Oval 7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Oval 8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362" name="Oval 8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Oval 9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365" name="Oval 9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b08c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c7b7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cadae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b4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904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1BA6-46DA-4692-8354-5F97A1D168F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7"/>
          <p:cNvGrpSpPr/>
          <p:nvPr/>
        </p:nvGrpSpPr>
        <p:grpSpPr>
          <a:xfrm>
            <a:off x="0" y="-6840"/>
            <a:ext cx="1104840" cy="6891480"/>
            <a:chOff x="0" y="-6840"/>
            <a:chExt cx="1104840" cy="6891480"/>
          </a:xfrm>
        </p:grpSpPr>
        <p:sp>
          <p:nvSpPr>
            <p:cNvPr id="409" name="Freeform 8"/>
            <p:cNvSpPr/>
            <p:nvPr/>
          </p:nvSpPr>
          <p:spPr>
            <a:xfrm rot="16200000">
              <a:off x="-2892240" y="2887200"/>
              <a:ext cx="6891480" cy="1103400"/>
            </a:xfrm>
            <a:prstGeom prst="pie">
              <a:avLst/>
            </a:prstGeom>
            <a:solidFill>
              <a:srgbClr val="d1634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 rot="16200000">
              <a:off x="-2893680" y="2899440"/>
              <a:ext cx="6870960" cy="1082880"/>
            </a:xfrm>
            <a:prstGeom prst="pi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b08c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c7b7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cadae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b4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9049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5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6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94B3-0460-423F-9B9D-EB7ABCBF53A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Заголовок 1" descr=""/>
          <p:cNvPicPr/>
          <p:nvPr/>
        </p:nvPicPr>
        <p:blipFill>
          <a:blip r:embed="rId1"/>
          <a:stretch/>
        </p:blipFill>
        <p:spPr>
          <a:xfrm>
            <a:off x="324000" y="2206800"/>
            <a:ext cx="8631000" cy="221292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914400" y="5486400"/>
            <a:ext cx="64008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46b86"/>
                </a:solidFill>
                <a:latin typeface="Tahoma"/>
              </a:rPr>
              <a:t>Для  старших классов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1" name="Рисунок 3" descr="i.jpeg"/>
          <p:cNvPicPr/>
          <p:nvPr/>
        </p:nvPicPr>
        <p:blipFill>
          <a:blip r:embed="rId2"/>
          <a:stretch/>
        </p:blipFill>
        <p:spPr>
          <a:xfrm>
            <a:off x="3693960" y="4638600"/>
            <a:ext cx="2041560" cy="1933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Прямоугольник 6" descr=""/>
          <p:cNvPicPr/>
          <p:nvPr/>
        </p:nvPicPr>
        <p:blipFill>
          <a:blip r:embed="rId2"/>
          <a:stretch/>
        </p:blipFill>
        <p:spPr>
          <a:xfrm>
            <a:off x="2077920" y="103320"/>
            <a:ext cx="6828120" cy="2427120"/>
          </a:xfrm>
          <a:prstGeom prst="rect">
            <a:avLst/>
          </a:prstGeom>
          <a:ln w="0">
            <a:noFill/>
          </a:ln>
        </p:spPr>
      </p:pic>
      <p:pic>
        <p:nvPicPr>
          <p:cNvPr id="633" name="Прямоугольник 13" descr=""/>
          <p:cNvPicPr/>
          <p:nvPr/>
        </p:nvPicPr>
        <p:blipFill>
          <a:blip r:embed="rId3"/>
          <a:stretch/>
        </p:blipFill>
        <p:spPr>
          <a:xfrm>
            <a:off x="731880" y="1706400"/>
            <a:ext cx="4419720" cy="3157560"/>
          </a:xfrm>
          <a:prstGeom prst="rect">
            <a:avLst/>
          </a:prstGeom>
          <a:ln w="0">
            <a:noFill/>
          </a:ln>
        </p:spPr>
      </p:pic>
      <p:pic>
        <p:nvPicPr>
          <p:cNvPr id="634" name="Рисунок 14" descr="ьл.jpeg"/>
          <p:cNvPicPr/>
          <p:nvPr/>
        </p:nvPicPr>
        <p:blipFill>
          <a:blip r:embed="rId4"/>
          <a:stretch/>
        </p:blipFill>
        <p:spPr>
          <a:xfrm>
            <a:off x="4797360" y="2077920"/>
            <a:ext cx="3597480" cy="2987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Выборы равные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6840" y="1874880"/>
            <a:ext cx="8258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fb08c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ы, проводимые в России, являются равными. Это означает, что каждый избиратель имеет один голос и все избиратели участвуют в выборах на равных основания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fb08c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иратель голосует лично и для получения избирательного бюллетеня требуется предъявления документа, удостоверяющего личность избирателя, а в списке избирателей делается отметка о выдач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7" name="Рисунок 7" descr="ло.jpeg"/>
          <p:cNvPicPr/>
          <p:nvPr/>
        </p:nvPicPr>
        <p:blipFill>
          <a:blip r:embed="rId1"/>
          <a:stretch/>
        </p:blipFill>
        <p:spPr>
          <a:xfrm>
            <a:off x="2143080" y="4643280"/>
            <a:ext cx="1285920" cy="1873440"/>
          </a:xfrm>
          <a:prstGeom prst="rect">
            <a:avLst/>
          </a:prstGeom>
          <a:ln w="9360">
            <a:solidFill>
              <a:srgbClr val="d16349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8" name="Рисунок 8" descr="егег.jpeg"/>
          <p:cNvPicPr/>
          <p:nvPr/>
        </p:nvPicPr>
        <p:blipFill>
          <a:blip r:embed="rId2"/>
          <a:stretch/>
        </p:blipFill>
        <p:spPr>
          <a:xfrm>
            <a:off x="4896000" y="4621320"/>
            <a:ext cx="1712880" cy="2833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7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7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77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77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457200" y="1856880"/>
            <a:ext cx="84009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8fb08c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е избирательное право означает, что избиратели голосуют на выборах за или против кандидатов (списка кандидатов) непосредственн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ыборы прямые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1" name="Рисунок 9" descr="рлрлр.jpeg"/>
          <p:cNvPicPr/>
          <p:nvPr/>
        </p:nvPicPr>
        <p:blipFill>
          <a:blip r:embed="rId2"/>
          <a:stretch/>
        </p:blipFill>
        <p:spPr>
          <a:xfrm>
            <a:off x="1643040" y="4000680"/>
            <a:ext cx="1905120" cy="1269720"/>
          </a:xfrm>
          <a:prstGeom prst="rect">
            <a:avLst/>
          </a:prstGeom>
          <a:ln w="28440">
            <a:solidFill>
              <a:srgbClr val="d16349"/>
            </a:solidFill>
            <a:miter/>
          </a:ln>
        </p:spPr>
      </p:pic>
      <p:pic>
        <p:nvPicPr>
          <p:cNvPr id="642" name="Рисунок 10" descr="лол.jpeg"/>
          <p:cNvPicPr/>
          <p:nvPr/>
        </p:nvPicPr>
        <p:blipFill>
          <a:blip r:embed="rId3"/>
          <a:stretch/>
        </p:blipFill>
        <p:spPr>
          <a:xfrm>
            <a:off x="5643720" y="4000680"/>
            <a:ext cx="1622160" cy="1222200"/>
          </a:xfrm>
          <a:prstGeom prst="rect">
            <a:avLst/>
          </a:prstGeom>
          <a:ln w="28440">
            <a:solidFill>
              <a:srgbClr val="d16349"/>
            </a:solidFill>
            <a:miter/>
          </a:ln>
        </p:spPr>
      </p:pic>
    </p:spTree>
  </p:cSld>
  <p:transition>
    <p:strips dir="rd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214200" y="1856880"/>
            <a:ext cx="8715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fb08c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ование на выборах является тайным. Это означает, что исключается возможность какого-либо контроля за волеизъявлением избирателей. Избирателю предоставляется возможность использовать особую комнату или закрытую кабину для заполнения избирательного бюллетеня. Бюллетень опускается в избирательный ящик личн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ыборы тайные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5" name="Рисунок 6" descr="еглл.jpeg"/>
          <p:cNvPicPr/>
          <p:nvPr/>
        </p:nvPicPr>
        <p:blipFill>
          <a:blip r:embed="rId1"/>
          <a:stretch/>
        </p:blipFill>
        <p:spPr>
          <a:xfrm>
            <a:off x="1428840" y="4714920"/>
            <a:ext cx="1990800" cy="1500120"/>
          </a:xfrm>
          <a:prstGeom prst="rect">
            <a:avLst/>
          </a:prstGeom>
          <a:ln w="57240">
            <a:solidFill>
              <a:srgbClr val="d16349"/>
            </a:solidFill>
            <a:miter/>
          </a:ln>
        </p:spPr>
      </p:pic>
      <p:pic>
        <p:nvPicPr>
          <p:cNvPr id="646" name="Рисунок 7" descr="аыаы.jpeg"/>
          <p:cNvPicPr/>
          <p:nvPr/>
        </p:nvPicPr>
        <p:blipFill>
          <a:blip r:embed="rId2"/>
          <a:stretch/>
        </p:blipFill>
        <p:spPr>
          <a:xfrm>
            <a:off x="5715000" y="4786200"/>
            <a:ext cx="1928880" cy="1440000"/>
          </a:xfrm>
          <a:prstGeom prst="rect">
            <a:avLst/>
          </a:prstGeom>
          <a:ln w="57240">
            <a:solidFill>
              <a:srgbClr val="d16349"/>
            </a:solidFill>
            <a:miter/>
          </a:ln>
        </p:spPr>
      </p:pic>
    </p:spTree>
  </p:cSld>
  <p:transition>
    <p:strips dir="ru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2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1142640" y="428760"/>
            <a:ext cx="75438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8fb08c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выборах является добровольным. Никто не вправе оказывать воздействие на гражданина с целью принудить его к участию или не участию в выборах, а также на его свободное волеизъявление. Свободное волеизъявление избирателей во время выборов обеспечивается и тем, что проведение агитации в день выборов в помещении для голосования не допускаетс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8" name="Рисунок 9" descr="щбщ.jpeg"/>
          <p:cNvPicPr/>
          <p:nvPr/>
        </p:nvPicPr>
        <p:blipFill>
          <a:blip r:embed="rId1"/>
          <a:stretch/>
        </p:blipFill>
        <p:spPr>
          <a:xfrm>
            <a:off x="2895480" y="4486320"/>
            <a:ext cx="3114720" cy="2011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5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5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-360" y="128592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fb08c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ин РФ, проживающий за ее пределами, обладает всей полнотой избирательных прав. Дипломатические и консульские учреждения РФ обязаны оказывать содействие гражданину РФ в реализации избирательных прав, установленных законом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fb08c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ирательные права граждан обеспечиваются рядом гарантий, в качестве которых выступают, в первую очередь, разные стороны организации и проведения выборов.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0" name="Picture 2" descr=""/>
          <p:cNvPicPr/>
          <p:nvPr/>
        </p:nvPicPr>
        <p:blipFill>
          <a:blip r:embed="rId2"/>
          <a:stretch/>
        </p:blipFill>
        <p:spPr>
          <a:xfrm>
            <a:off x="2992320" y="5205240"/>
            <a:ext cx="2444760" cy="1165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50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50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50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0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Прямоугольник 6" descr=""/>
          <p:cNvPicPr/>
          <p:nvPr/>
        </p:nvPicPr>
        <p:blipFill>
          <a:blip r:embed="rId1"/>
          <a:stretch/>
        </p:blipFill>
        <p:spPr>
          <a:xfrm>
            <a:off x="12600" y="1639800"/>
            <a:ext cx="9344160" cy="2193840"/>
          </a:xfrm>
          <a:prstGeom prst="rect">
            <a:avLst/>
          </a:prstGeom>
          <a:ln w="0">
            <a:noFill/>
          </a:ln>
        </p:spPr>
      </p:pic>
      <p:pic>
        <p:nvPicPr>
          <p:cNvPr id="613" name="Рисунок 8" descr="ждж.jpeg"/>
          <p:cNvPicPr/>
          <p:nvPr/>
        </p:nvPicPr>
        <p:blipFill>
          <a:blip r:embed="rId2"/>
          <a:stretch/>
        </p:blipFill>
        <p:spPr>
          <a:xfrm>
            <a:off x="3357720" y="3714840"/>
            <a:ext cx="2512800" cy="217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84200" y="121428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збирательной системой в РФ понимается порядок выборов Президента РФ, депутатов Государственной Думы Федерального Собрания РФ, в иные федеральные государственные органы, предусмотренные Конституцией Российской Федерации и избираемые непосредственно гражданами РФ в соответствии с федеральными законами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орядок определяется конституционно-правовыми нормами, которые в своей совокупности образуют избирательное право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5" name="Рисунок 8" descr="бь.jpeg"/>
          <p:cNvPicPr/>
          <p:nvPr/>
        </p:nvPicPr>
        <p:blipFill>
          <a:blip r:embed="rId2"/>
          <a:stretch/>
        </p:blipFill>
        <p:spPr>
          <a:xfrm>
            <a:off x="2000160" y="4929120"/>
            <a:ext cx="1986120" cy="157176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9" descr="длдл.jpeg"/>
          <p:cNvPicPr/>
          <p:nvPr/>
        </p:nvPicPr>
        <p:blipFill>
          <a:blip r:embed="rId3"/>
          <a:stretch/>
        </p:blipFill>
        <p:spPr>
          <a:xfrm>
            <a:off x="5286240" y="5000760"/>
            <a:ext cx="2500560" cy="1542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6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Содержимое 2" descr=""/>
          <p:cNvPicPr/>
          <p:nvPr/>
        </p:nvPicPr>
        <p:blipFill>
          <a:blip r:embed="rId1"/>
          <a:stretch/>
        </p:blipFill>
        <p:spPr>
          <a:xfrm>
            <a:off x="841320" y="719280"/>
            <a:ext cx="7851960" cy="5413320"/>
          </a:xfrm>
          <a:prstGeom prst="rect">
            <a:avLst/>
          </a:prstGeom>
          <a:ln w="0">
            <a:noFill/>
          </a:ln>
        </p:spPr>
      </p:pic>
      <p:cxnSp>
        <p:nvCxnSpPr>
          <p:cNvPr id="618" name="Прямая со стрелкой 5"/>
          <p:cNvCxnSpPr/>
          <p:nvPr/>
        </p:nvCxnSpPr>
        <p:spPr>
          <a:xfrm flipH="1">
            <a:off x="3357000" y="3643200"/>
            <a:ext cx="500760" cy="643320"/>
          </a:xfrm>
          <a:prstGeom prst="straightConnector1">
            <a:avLst/>
          </a:prstGeom>
          <a:ln w="3168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619" name="Прямая со стрелкой 7"/>
          <p:cNvCxnSpPr/>
          <p:nvPr/>
        </p:nvCxnSpPr>
        <p:spPr>
          <a:xfrm>
            <a:off x="5856840" y="3643200"/>
            <a:ext cx="500760" cy="643320"/>
          </a:xfrm>
          <a:prstGeom prst="straightConnector1">
            <a:avLst/>
          </a:prstGeom>
          <a:ln w="31680">
            <a:solidFill>
              <a:srgbClr val="d16349"/>
            </a:solidFill>
            <a:miter/>
            <a:tailEnd len="med" type="arrow" w="med"/>
          </a:ln>
        </p:spPr>
      </p:cxnSp>
    </p:spTree>
  </p:cSld>
  <p:transition>
    <p:pull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499680" y="1714320"/>
            <a:ext cx="8001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8fb08c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аво избирать, т.е. право граждан РФ участвовать в выборах в органы государственной власти и выборные органы местного самоуправления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Активное избирательное право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2" name="Рисунок 9" descr="дрд.jpeg"/>
          <p:cNvPicPr/>
          <p:nvPr/>
        </p:nvPicPr>
        <p:blipFill>
          <a:blip r:embed="rId2"/>
          <a:stretch/>
        </p:blipFill>
        <p:spPr>
          <a:xfrm>
            <a:off x="1357200" y="3643200"/>
            <a:ext cx="2086200" cy="157176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10" descr="лол.jpeg"/>
          <p:cNvPicPr/>
          <p:nvPr/>
        </p:nvPicPr>
        <p:blipFill>
          <a:blip r:embed="rId3"/>
          <a:stretch/>
        </p:blipFill>
        <p:spPr>
          <a:xfrm>
            <a:off x="5357880" y="3500280"/>
            <a:ext cx="2181240" cy="1643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Заголовок 1" descr=""/>
          <p:cNvPicPr/>
          <p:nvPr/>
        </p:nvPicPr>
        <p:blipFill>
          <a:blip r:embed="rId2"/>
          <a:stretch/>
        </p:blipFill>
        <p:spPr>
          <a:xfrm>
            <a:off x="517680" y="281160"/>
            <a:ext cx="8510400" cy="129852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 txBox="1"/>
          <p:nvPr/>
        </p:nvSpPr>
        <p:spPr>
          <a:xfrm>
            <a:off x="928800" y="1356840"/>
            <a:ext cx="77580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fb08c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аво избираться, т.е. право граждан РФ быть избранными в органы государственной власти и в выборные органы местного самоуправл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fb08c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6" name="Рисунок 4" descr="облб.jpeg"/>
          <p:cNvPicPr/>
          <p:nvPr/>
        </p:nvPicPr>
        <p:blipFill>
          <a:blip r:embed="rId3"/>
          <a:stretch/>
        </p:blipFill>
        <p:spPr>
          <a:xfrm>
            <a:off x="3500280" y="3643200"/>
            <a:ext cx="2643480" cy="220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Заголовок 4" descr=""/>
          <p:cNvPicPr/>
          <p:nvPr/>
        </p:nvPicPr>
        <p:blipFill>
          <a:blip r:embed="rId1"/>
          <a:stretch/>
        </p:blipFill>
        <p:spPr>
          <a:xfrm>
            <a:off x="1279440" y="2103480"/>
            <a:ext cx="7400880" cy="148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14200" y="1428480"/>
            <a:ext cx="8715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общим является такое  избирательное право, когда все взрослые граждане имеют право участвовать в выборах. Гражданин РФ, достигший 18 лет, вправе избирать.</a:t>
            </a: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ин российской Федерации может избирать и быть избранным независимо от 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 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endParaRPr b="1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214200" y="1801800"/>
            <a:ext cx="8715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212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емый возраст кандидата не может быть менее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2124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года при выборах в органы государственной власти субъектов Российской Федерации (ч.1 ст. 97 Конституции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2124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лет при выборах главы исполнительного органа государственной власти (Президента) субъекта Российской Федераци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2124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год при выборах главы местного самоуправления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0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199720" cy="15112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" descr=""/>
          <p:cNvPicPr/>
          <p:nvPr/>
        </p:nvPicPr>
        <p:blipFill>
          <a:blip r:embed="rId2"/>
          <a:stretch/>
        </p:blipFill>
        <p:spPr>
          <a:xfrm>
            <a:off x="3565440" y="6066000"/>
            <a:ext cx="2298960" cy="609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4:26:02Z</dcterms:created>
  <dc:creator>Семья</dc:creator>
  <dc:description/>
  <dc:language>en-US</dc:language>
  <cp:lastModifiedBy>User</cp:lastModifiedBy>
  <dcterms:modified xsi:type="dcterms:W3CDTF">2018-11-16T09:18:54Z</dcterms:modified>
  <cp:revision>26</cp:revision>
  <dc:subject/>
  <dc:title>Избирательное право в Российской Федерации.</dc:title>
</cp:coreProperties>
</file>